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13.png" ContentType="image/png"/>
  <Override PartName="/ppt/media/image48.png" ContentType="image/png"/>
  <Override PartName="/ppt/media/image5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A5C9-9214-4E55-8032-B9171B2322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04B8-C9D9-4BD5-83FF-4A66241AA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а тяжести, 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– коэффициент силы тяжести, Н/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– масса тела, 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а тяжести, действующая на тело, прямо пропорциональна массе эт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160D-806C-4EAF-919E-32CEF241B2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эффициенты силы тяжести, Н/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Объясните, почему сила тяжести на экваторе меньше силы тяжести на полюсах Зем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Будет ли сила тяжести на вершине горы меньше, чем у её поднож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5ABE-8874-439D-BD76-9E0CC0DC90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величивается с увеличением массы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зависит от места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измеряется в килограм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Земле везде одинак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меньшается при удалении от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поверхности всех планет одинак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действует тольк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D96-7142-4A5C-AF14-E185B3047A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нято говор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На тело действует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К телу приложена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5D17-CFD0-409E-8F70-2F6C3959A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2217"/>
                </a:solidFill>
                <a:latin typeface="Cambria"/>
              </a:rPr>
              <a:t>Сила, действующая на тело, может изменить не тольк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скорость всего тела, </a:t>
            </a:r>
            <a:r>
              <a:rPr b="1" lang="ru-RU" sz="1200" spc="-1" strike="noStrike">
                <a:solidFill>
                  <a:srgbClr val="4e1610"/>
                </a:solidFill>
                <a:latin typeface="Cambria"/>
              </a:rPr>
              <a:t>но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 и его отдельны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729F-E96C-474E-9BD2-4EAEC5780A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мера взаимодействия т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воздействия силы тела могут изменить скорость или деформиро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физическ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е можно изме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векторн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а характеризуется на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8F72-68EA-45F6-8E74-DB68CDF553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произойдет, если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уронили поклажу из ру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подбросили вверх мя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бросили в горизонтальном направлении пал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7A32-D2BB-4DAE-93C7-9AEA64A5D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Некоторые примеры воздействия силы притяжения к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4D7F-183E-4A5A-AC6D-DF1C9EB6E0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итяжение существует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емлей и телами, находящимис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Притяжение всех тел Вселенной друг к другу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Всемирным тягот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се тела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7F1D-A000-4DDC-888D-8E2B729D3D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Силы притяжения между телами тем больше, чем больше массы эти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ы притяжения между телами уменьшаются, если увеличивается расстояние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507E-0DFF-461F-AFD8-A53107F3DD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означение силы тяжести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тя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правление силы тяжести: </a:t>
            </a:r>
            <a:r>
              <a:rPr b="1" lang="ru-RU" sz="1100" spc="-1" strike="noStrike">
                <a:solidFill>
                  <a:srgbClr val="c00000"/>
                </a:solidFill>
                <a:latin typeface="Calibri"/>
              </a:rPr>
              <a:t>вертикально вни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CC34-C1A3-469B-8B2A-548143CBE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10A-28CD-48CC-9895-64831C42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BC0-53B5-4427-89EB-4630398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35D-643F-4C8C-9868-04DFF839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81B-B55B-4063-9825-E4AA4880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8C89-67D0-4DB6-AA3B-A9E1FE9C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AC48-5ACA-4DC7-BB2E-7FBFAF90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EE1F-EBC6-4D84-9E42-CE0C862E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9D3-D32C-42B0-80B4-7B842EF9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EB92-C73B-4AA2-9CE7-DF39FD53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BBA5-759D-4502-AC76-BFF664D1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3974-3900-4A7B-A766-CFF9168E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2E7-9FF8-424C-B50B-F7B3FBD7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C4F0-9987-4499-9F64-6337915C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49F1-6979-486F-9528-6E917C7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C02D-EED0-4BE1-9849-02EC7A36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6F4E-0826-4DCB-A57B-0A9F5699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6973-13AE-4BC6-91C5-2931532B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73FD-0A2C-4B80-99A5-B1E44D4C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FD0A-2FFD-43CE-A94C-64514DB4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464C-5139-4B71-8F58-059928CD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4464-8793-4AFF-A42E-07DDED90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D5A5-27CD-47AA-9139-846EBD97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D2F-9250-460C-B53A-10900B6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A2A6B-0E9A-43A1-928F-478D8837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7A66-9E2C-401D-94BE-B83C308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6B9D-5985-424E-9E7A-0812D2C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9257-6EA8-4CD7-8C04-ED0D318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04E4-90C9-4F6C-A519-6AF2F4EF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6853-DB71-4173-8BC9-BA1E7C6F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005C-CB40-4984-83E3-E4243DCF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D066-3CD2-4B36-AFFC-E924E496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0D9A-C93E-496A-AC0E-14CC45D0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814E-490C-431D-812E-CF2C7D57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37C-3057-413C-8838-D2CF8DE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148C6-9916-4C2D-BDD4-1AEF142D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56B8-73E7-42BB-8E49-1700ABD8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BDEF-CD6D-4CA0-86EF-0693B07C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27D7-9069-49B4-84B9-51AB733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9A0C-E531-482A-A691-76827FFF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18B8E-A8C0-43AD-AC06-DEC6D60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94979-9627-4531-9DF2-A1A113B5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AE73-E90A-40BB-95FA-2D86B5FF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0674E-F7D3-4C40-82A5-A200C980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64C1D-268D-4366-9837-8539BB35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110-583F-4866-BED8-E97CA841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69791-ED34-4710-8818-75826BD1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0C14B-4908-420E-A9D2-4271E45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213BB-0787-46EC-AEB7-76AD9353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E065C-98F8-48DE-A1D8-02FF9A5B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535BF-5F27-402A-8715-773097B5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59EF-789E-44F0-B832-2438406D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8EFC4-5315-46B7-80DD-B1D708C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90CC-D278-42D5-9A08-EE7218B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EEBF-EC34-4B58-9A69-C2847F73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8043B-E5D6-4B35-B663-6A62E2DF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014-C986-4E92-8036-561F3B8E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B7AF-737B-4D38-910D-C5391B42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7DA-3563-4578-997E-3582A95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D88-355B-4E3F-AB03-7795403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5FD-8AC6-4702-8848-0DF00492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7D31-FD46-4F88-B14A-F07744B5AF8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978-332C-4B07-A86A-F5512AEDB35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22FD-C05A-48AA-A914-74EAA6A0848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271-CB95-4369-88F9-A01F08A39E3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0899-B42D-427D-8632-3EFA3473BAE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4147200" y="50846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905120" y="595008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математики и информатики Тивяко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, г.Светлый Калинин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206064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яж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сила тяжести, Н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– коэффициент силы тяжести, Н/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m– масса тела, 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ила тяжести, действующая на тело, прямо пропорциональна массе этого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1" name="Овал 3"/>
          <p:cNvGrpSpPr/>
          <p:nvPr/>
        </p:nvGrpSpPr>
        <p:grpSpPr>
          <a:xfrm>
            <a:off x="1347840" y="158760"/>
            <a:ext cx="6375240" cy="1670040"/>
            <a:chOff x="1347840" y="158760"/>
            <a:chExt cx="6375240" cy="1670040"/>
          </a:xfrm>
        </p:grpSpPr>
        <p:pic>
          <p:nvPicPr>
            <p:cNvPr id="322" name="Овал 3" descr=""/>
            <p:cNvPicPr/>
            <p:nvPr/>
          </p:nvPicPr>
          <p:blipFill>
            <a:blip r:embed="rId1"/>
            <a:stretch/>
          </p:blipFill>
          <p:spPr>
            <a:xfrm>
              <a:off x="1347840" y="158760"/>
              <a:ext cx="63752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"/>
            <p:cNvSpPr/>
            <p:nvPr/>
          </p:nvSpPr>
          <p:spPr>
            <a:xfrm>
              <a:off x="2320920" y="417600"/>
              <a:ext cx="4430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F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тяж</a:t>
              </a: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 = g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Прямоугольник 5"/>
          <p:cNvSpPr/>
          <p:nvPr/>
        </p:nvSpPr>
        <p:spPr>
          <a:xfrm>
            <a:off x="395280" y="4724280"/>
            <a:ext cx="8424720" cy="16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величится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велич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ассы тел одинаковы, то одинаковы и действующие на них силы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оэффициенты силы тяжести, Н/кг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Picture 25" descr=""/>
          <p:cNvPicPr/>
          <p:nvPr/>
        </p:nvPicPr>
        <p:blipFill>
          <a:blip r:embed="rId1"/>
          <a:stretch/>
        </p:blipFill>
        <p:spPr>
          <a:xfrm rot="21151800">
            <a:off x="971640" y="1125000"/>
            <a:ext cx="2790720" cy="22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TextBox 4"/>
          <p:cNvSpPr/>
          <p:nvPr/>
        </p:nvSpPr>
        <p:spPr>
          <a:xfrm>
            <a:off x="978480" y="134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Прямоугольник 5"/>
          <p:cNvGrpSpPr/>
          <p:nvPr/>
        </p:nvGrpSpPr>
        <p:grpSpPr>
          <a:xfrm>
            <a:off x="2846520" y="2425680"/>
            <a:ext cx="903240" cy="609480"/>
            <a:chOff x="2846520" y="2425680"/>
            <a:chExt cx="903240" cy="609480"/>
          </a:xfrm>
        </p:grpSpPr>
        <p:pic>
          <p:nvPicPr>
            <p:cNvPr id="3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46520" y="242568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3022920" y="249228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1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6" descr=""/>
          <p:cNvPicPr/>
          <p:nvPr/>
        </p:nvPicPr>
        <p:blipFill>
          <a:blip r:embed="rId3"/>
          <a:stretch/>
        </p:blipFill>
        <p:spPr>
          <a:xfrm rot="618000">
            <a:off x="5281200" y="1196640"/>
            <a:ext cx="302904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7"/>
          <p:cNvSpPr/>
          <p:nvPr/>
        </p:nvSpPr>
        <p:spPr>
          <a:xfrm>
            <a:off x="551808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Прямоугольник 8"/>
          <p:cNvGrpSpPr/>
          <p:nvPr/>
        </p:nvGrpSpPr>
        <p:grpSpPr>
          <a:xfrm>
            <a:off x="7169040" y="2712960"/>
            <a:ext cx="901800" cy="609840"/>
            <a:chOff x="7169040" y="2712960"/>
            <a:chExt cx="901800" cy="609840"/>
          </a:xfrm>
        </p:grpSpPr>
        <p:pic>
          <p:nvPicPr>
            <p:cNvPr id="33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169040" y="2712960"/>
              <a:ext cx="9018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1"/>
            <p:cNvSpPr/>
            <p:nvPr/>
          </p:nvSpPr>
          <p:spPr>
            <a:xfrm>
              <a:off x="7332120" y="278136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27" descr=""/>
          <p:cNvPicPr/>
          <p:nvPr/>
        </p:nvPicPr>
        <p:blipFill>
          <a:blip r:embed="rId5"/>
          <a:stretch/>
        </p:blipFill>
        <p:spPr>
          <a:xfrm rot="520800">
            <a:off x="609120" y="3989520"/>
            <a:ext cx="2808360" cy="20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Прямоугольник 10"/>
          <p:cNvSpPr/>
          <p:nvPr/>
        </p:nvSpPr>
        <p:spPr>
          <a:xfrm>
            <a:off x="837720" y="4076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Прямоугольник 11"/>
          <p:cNvGrpSpPr/>
          <p:nvPr/>
        </p:nvGrpSpPr>
        <p:grpSpPr>
          <a:xfrm>
            <a:off x="2408400" y="5450040"/>
            <a:ext cx="828360" cy="609480"/>
            <a:chOff x="2408400" y="5450040"/>
            <a:chExt cx="828360" cy="609480"/>
          </a:xfrm>
        </p:grpSpPr>
        <p:pic>
          <p:nvPicPr>
            <p:cNvPr id="339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2408400" y="5450040"/>
              <a:ext cx="828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6"/>
            <p:cNvSpPr/>
            <p:nvPr/>
          </p:nvSpPr>
          <p:spPr>
            <a:xfrm>
              <a:off x="2567520" y="551664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8" descr=""/>
          <p:cNvPicPr/>
          <p:nvPr/>
        </p:nvPicPr>
        <p:blipFill>
          <a:blip r:embed="rId7"/>
          <a:stretch/>
        </p:blipFill>
        <p:spPr>
          <a:xfrm rot="21169200">
            <a:off x="4341600" y="3751200"/>
            <a:ext cx="300816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42" name="Прямоугольник 14"/>
          <p:cNvGrpSpPr/>
          <p:nvPr/>
        </p:nvGrpSpPr>
        <p:grpSpPr>
          <a:xfrm>
            <a:off x="6675480" y="5754600"/>
            <a:ext cx="2035080" cy="835200"/>
            <a:chOff x="6675480" y="5754600"/>
            <a:chExt cx="2035080" cy="835200"/>
          </a:xfrm>
        </p:grpSpPr>
        <p:pic>
          <p:nvPicPr>
            <p:cNvPr id="34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675480" y="5754600"/>
              <a:ext cx="20350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0"/>
            <p:cNvSpPr/>
            <p:nvPr/>
          </p:nvSpPr>
          <p:spPr>
            <a:xfrm>
              <a:off x="6732720" y="5805360"/>
              <a:ext cx="192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полюсах - 9,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15"/>
          <p:cNvGrpSpPr/>
          <p:nvPr/>
        </p:nvGrpSpPr>
        <p:grpSpPr>
          <a:xfrm>
            <a:off x="6924600" y="4529160"/>
            <a:ext cx="2024280" cy="841320"/>
            <a:chOff x="6924600" y="4529160"/>
            <a:chExt cx="2024280" cy="841320"/>
          </a:xfrm>
        </p:grpSpPr>
        <p:pic>
          <p:nvPicPr>
            <p:cNvPr id="346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6924600" y="4529160"/>
              <a:ext cx="202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3"/>
            <p:cNvSpPr/>
            <p:nvPr/>
          </p:nvSpPr>
          <p:spPr>
            <a:xfrm>
              <a:off x="7020000" y="4581360"/>
              <a:ext cx="18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экваторе - 9,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17"/>
          <p:cNvGrpSpPr/>
          <p:nvPr/>
        </p:nvGrpSpPr>
        <p:grpSpPr>
          <a:xfrm>
            <a:off x="-55440" y="1884240"/>
            <a:ext cx="9285120" cy="3065760"/>
            <a:chOff x="-55440" y="1884240"/>
            <a:chExt cx="9285120" cy="3065760"/>
          </a:xfrm>
        </p:grpSpPr>
        <p:pic>
          <p:nvPicPr>
            <p:cNvPr id="349" name="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-55440" y="1884240"/>
              <a:ext cx="92851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6"/>
            <p:cNvSpPr/>
            <p:nvPr/>
          </p:nvSpPr>
          <p:spPr>
            <a:xfrm>
              <a:off x="0" y="1916280"/>
              <a:ext cx="914400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Объясните, почему сила тяжести на экваторе меньше силы тяжести на полюсах Зем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Будет ли сила тяжести на вершине горы меньше, чем у её поднож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34 0.10509 E">
                                      <p:cBhvr>
                                        <p:cTn id="14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58560" y="1628280"/>
            <a:ext cx="8785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величивается с увеличением массы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зависит от места наблюд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Земле везде одинаков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меньшается при удалении от поверхности Земл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поверхности всех планет одинаков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действует только на Зем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2" name="TextBox 2"/>
          <p:cNvGrpSpPr/>
          <p:nvPr/>
        </p:nvGrpSpPr>
        <p:grpSpPr>
          <a:xfrm>
            <a:off x="-55440" y="536400"/>
            <a:ext cx="9254880" cy="689040"/>
            <a:chOff x="-55440" y="536400"/>
            <a:chExt cx="9254880" cy="689040"/>
          </a:xfrm>
        </p:grpSpPr>
        <p:pic>
          <p:nvPicPr>
            <p:cNvPr id="353" name="TextBox 2" descr=""/>
            <p:cNvPicPr/>
            <p:nvPr/>
          </p:nvPicPr>
          <p:blipFill>
            <a:blip r:embed="rId1"/>
            <a:stretch/>
          </p:blipFill>
          <p:spPr>
            <a:xfrm>
              <a:off x="-55440" y="536400"/>
              <a:ext cx="9254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4"/>
            <p:cNvSpPr/>
            <p:nvPr/>
          </p:nvSpPr>
          <p:spPr>
            <a:xfrm>
              <a:off x="0" y="62064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80d9b"/>
                  </a:solidFill>
                  <a:latin typeface="Cambria"/>
                </a:rPr>
                <a:t>Найди верные утвержд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01636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484200" y="26028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меры взаимодейств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14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1" name="TextBox 5"/>
          <p:cNvSpPr/>
          <p:nvPr/>
        </p:nvSpPr>
        <p:spPr>
          <a:xfrm>
            <a:off x="250920" y="314172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тела взаимодействуют между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 направлением движения мяча, при воздействии на него ногой мальч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мяч имел бы меньшую массу, то скорость полета была бы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о скоростью тележки, когда ребенок начинает толкать ее силь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24000" y="5805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корость тела меняется при взаимодействии его с другими т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215892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4" name="Группа 10"/>
          <p:cNvGrpSpPr/>
          <p:nvPr/>
        </p:nvGrpSpPr>
        <p:grpSpPr>
          <a:xfrm>
            <a:off x="250920" y="3068640"/>
            <a:ext cx="8642160" cy="3529080"/>
            <a:chOff x="250920" y="3068640"/>
            <a:chExt cx="8642160" cy="3529080"/>
          </a:xfrm>
        </p:grpSpPr>
        <p:grpSp>
          <p:nvGrpSpPr>
            <p:cNvPr id="245" name="Прямоугольник 8"/>
            <p:cNvGrpSpPr/>
            <p:nvPr/>
          </p:nvGrpSpPr>
          <p:grpSpPr>
            <a:xfrm>
              <a:off x="250920" y="3068640"/>
              <a:ext cx="8642160" cy="3529080"/>
              <a:chOff x="250920" y="3068640"/>
              <a:chExt cx="8642160" cy="3529080"/>
            </a:xfrm>
          </p:grpSpPr>
          <p:pic>
            <p:nvPicPr>
              <p:cNvPr id="246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920" y="3068640"/>
                <a:ext cx="864216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1"/>
              <p:cNvSpPr/>
              <p:nvPr/>
            </p:nvSpPr>
            <p:spPr>
              <a:xfrm>
                <a:off x="305640" y="3100320"/>
                <a:ext cx="8532360" cy="34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TextBox 9"/>
            <p:cNvGrpSpPr/>
            <p:nvPr/>
          </p:nvGrpSpPr>
          <p:grpSpPr>
            <a:xfrm>
              <a:off x="2230920" y="3801600"/>
              <a:ext cx="4314960" cy="2355480"/>
              <a:chOff x="2230920" y="3801600"/>
              <a:chExt cx="4314960" cy="2355480"/>
            </a:xfrm>
          </p:grpSpPr>
          <p:pic>
            <p:nvPicPr>
              <p:cNvPr id="249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0920" y="3801600"/>
                <a:ext cx="431496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 Box 14"/>
              <p:cNvSpPr/>
              <p:nvPr/>
            </p:nvSpPr>
            <p:spPr>
              <a:xfrm>
                <a:off x="2367720" y="3868560"/>
                <a:ext cx="4123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mbria"/>
                  </a:rPr>
                  <a:t>Принято говорить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На тело действует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Cambria"/>
                  </a:rPr>
                  <a:t>ил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К телу приложена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5" descr=""/>
          <p:cNvPicPr/>
          <p:nvPr/>
        </p:nvPicPr>
        <p:blipFill>
          <a:blip r:embed="rId6"/>
          <a:stretch/>
        </p:blipFill>
        <p:spPr>
          <a:xfrm>
            <a:off x="2340000" y="907920"/>
            <a:ext cx="201600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TextBox 2"/>
          <p:cNvGrpSpPr/>
          <p:nvPr/>
        </p:nvGrpSpPr>
        <p:grpSpPr>
          <a:xfrm>
            <a:off x="628560" y="189000"/>
            <a:ext cx="8174160" cy="1353960"/>
            <a:chOff x="628560" y="189000"/>
            <a:chExt cx="8174160" cy="1353960"/>
          </a:xfrm>
        </p:grpSpPr>
        <p:pic>
          <p:nvPicPr>
            <p:cNvPr id="25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89000"/>
              <a:ext cx="817416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684360" y="260280"/>
              <a:ext cx="806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42217"/>
                  </a:solidFill>
                  <a:latin typeface="Cambria"/>
                </a:rPr>
                <a:t>Сила, действующая на тело, может изменить не только 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скорость всего тела, </a:t>
              </a:r>
              <a:r>
                <a:rPr b="1" lang="ru-RU" sz="2400" spc="-1" strike="noStrike">
                  <a:solidFill>
                    <a:srgbClr val="4e1610"/>
                  </a:solidFill>
                  <a:latin typeface="Cambria"/>
                </a:rPr>
                <a:t>но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 и его отдельных час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9"/>
          <p:cNvGrpSpPr/>
          <p:nvPr/>
        </p:nvGrpSpPr>
        <p:grpSpPr>
          <a:xfrm>
            <a:off x="684360" y="1773360"/>
            <a:ext cx="8621280" cy="1942920"/>
            <a:chOff x="684360" y="1773360"/>
            <a:chExt cx="8621280" cy="1942920"/>
          </a:xfrm>
        </p:grpSpPr>
        <p:pic>
          <p:nvPicPr>
            <p:cNvPr id="256" name="Picture 4" descr=""/>
            <p:cNvPicPr/>
            <p:nvPr/>
          </p:nvPicPr>
          <p:blipFill>
            <a:blip r:embed="rId2"/>
            <a:stretch/>
          </p:blipFill>
          <p:spPr>
            <a:xfrm>
              <a:off x="7596000" y="2349000"/>
              <a:ext cx="1709640" cy="13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Группа 6"/>
            <p:cNvGrpSpPr/>
            <p:nvPr/>
          </p:nvGrpSpPr>
          <p:grpSpPr>
            <a:xfrm>
              <a:off x="684360" y="1773360"/>
              <a:ext cx="8064000" cy="1724040"/>
              <a:chOff x="684360" y="1773360"/>
              <a:chExt cx="8064000" cy="1724040"/>
            </a:xfrm>
          </p:grpSpPr>
          <p:sp>
            <p:nvSpPr>
              <p:cNvPr id="258" name="TextBox 3"/>
              <p:cNvSpPr/>
              <p:nvPr/>
            </p:nvSpPr>
            <p:spPr>
              <a:xfrm>
                <a:off x="3924360" y="1917720"/>
                <a:ext cx="4824000" cy="1191240"/>
              </a:xfrm>
              <a:prstGeom prst="rect">
                <a:avLst/>
              </a:prstGeom>
              <a:noFill/>
              <a:ln w="9360">
                <a:solidFill>
                  <a:srgbClr val="d348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9240c"/>
                    </a:solidFill>
                    <a:latin typeface="Arial"/>
                  </a:rPr>
                  <a:t>Деформация тела – любое изменение формы и размера тел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1773360"/>
                <a:ext cx="2730240" cy="172404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260" name="Группа 12"/>
          <p:cNvGrpSpPr/>
          <p:nvPr/>
        </p:nvGrpSpPr>
        <p:grpSpPr>
          <a:xfrm>
            <a:off x="5724360" y="3933720"/>
            <a:ext cx="2965680" cy="2157480"/>
            <a:chOff x="5724360" y="3933720"/>
            <a:chExt cx="2965680" cy="2157480"/>
          </a:xfrm>
        </p:grpSpPr>
        <p:pic>
          <p:nvPicPr>
            <p:cNvPr id="261" name="Picture 6" descr=""/>
            <p:cNvPicPr/>
            <p:nvPr/>
          </p:nvPicPr>
          <p:blipFill>
            <a:blip r:embed="rId4"/>
            <a:stretch/>
          </p:blipFill>
          <p:spPr>
            <a:xfrm>
              <a:off x="7164000" y="3933720"/>
              <a:ext cx="15260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11"/>
            <p:cNvSpPr/>
            <p:nvPr/>
          </p:nvSpPr>
          <p:spPr>
            <a:xfrm>
              <a:off x="5724360" y="4078080"/>
              <a:ext cx="1584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9240c"/>
                  </a:solidFill>
                  <a:latin typeface="Arial"/>
                </a:rPr>
                <a:t>Веревка провисла, когда на ней стал резвиться  котенок</a:t>
              </a:r>
              <a:r>
                <a:rPr b="0" lang="ru-RU" sz="2000" spc="-1" strike="noStrike">
                  <a:solidFill>
                    <a:srgbClr val="69240c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18"/>
          <p:cNvGrpSpPr/>
          <p:nvPr/>
        </p:nvGrpSpPr>
        <p:grpSpPr>
          <a:xfrm>
            <a:off x="468360" y="3860640"/>
            <a:ext cx="4535280" cy="2570400"/>
            <a:chOff x="468360" y="3860640"/>
            <a:chExt cx="4535280" cy="2570400"/>
          </a:xfrm>
        </p:grpSpPr>
        <p:pic>
          <p:nvPicPr>
            <p:cNvPr id="264" name="Picture 8" descr=""/>
            <p:cNvPicPr/>
            <p:nvPr/>
          </p:nvPicPr>
          <p:blipFill>
            <a:blip r:embed="rId5"/>
            <a:stretch/>
          </p:blipFill>
          <p:spPr>
            <a:xfrm>
              <a:off x="3132000" y="4868640"/>
              <a:ext cx="1871640" cy="1562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65" name="Picture 9" descr=""/>
            <p:cNvPicPr/>
            <p:nvPr/>
          </p:nvPicPr>
          <p:blipFill>
            <a:blip r:embed="rId6"/>
            <a:stretch/>
          </p:blipFill>
          <p:spPr>
            <a:xfrm>
              <a:off x="612720" y="4868640"/>
              <a:ext cx="2225520" cy="155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66" name="TextBox 17"/>
            <p:cNvSpPr/>
            <p:nvPr/>
          </p:nvSpPr>
          <p:spPr>
            <a:xfrm>
              <a:off x="468360" y="3860640"/>
              <a:ext cx="431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Чтобы сдвинуть автомобили с места требуется приложить силы разной велич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0560" y="69192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мера взаимодействия тел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 результате воздействия силы тела могут изменить скорость или деформироватьс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физическ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ее можно измерит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векторн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на характеризуется направление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8" name="TextBox 3"/>
          <p:cNvGrpSpPr/>
          <p:nvPr/>
        </p:nvGrpSpPr>
        <p:grpSpPr>
          <a:xfrm>
            <a:off x="-55440" y="109440"/>
            <a:ext cx="9254880" cy="682560"/>
            <a:chOff x="-55440" y="109440"/>
            <a:chExt cx="9254880" cy="682560"/>
          </a:xfrm>
        </p:grpSpPr>
        <p:pic>
          <p:nvPicPr>
            <p:cNvPr id="269" name="TextBox 3" descr=""/>
            <p:cNvPicPr/>
            <p:nvPr/>
          </p:nvPicPr>
          <p:blipFill>
            <a:blip r:embed="rId1"/>
            <a:stretch/>
          </p:blipFill>
          <p:spPr>
            <a:xfrm>
              <a:off x="-55440" y="109440"/>
              <a:ext cx="9254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0" y="1890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Что мы должны знать о понятии «си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7"/>
          <p:cNvGrpSpPr/>
          <p:nvPr/>
        </p:nvGrpSpPr>
        <p:grpSpPr>
          <a:xfrm>
            <a:off x="0" y="3357720"/>
            <a:ext cx="8893080" cy="1958760"/>
            <a:chOff x="0" y="3357720"/>
            <a:chExt cx="8893080" cy="1958760"/>
          </a:xfrm>
        </p:grpSpPr>
        <p:pic>
          <p:nvPicPr>
            <p:cNvPr id="272" name="Picture 4" descr="Сложение сил_ лебедь-рак-щука"/>
            <p:cNvPicPr/>
            <p:nvPr/>
          </p:nvPicPr>
          <p:blipFill>
            <a:blip r:embed="rId2"/>
            <a:stretch/>
          </p:blipFill>
          <p:spPr>
            <a:xfrm>
              <a:off x="6445440" y="3357720"/>
              <a:ext cx="2447640" cy="1958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Прямоугольник 6"/>
            <p:cNvSpPr/>
            <p:nvPr/>
          </p:nvSpPr>
          <p:spPr>
            <a:xfrm>
              <a:off x="0" y="3645720"/>
              <a:ext cx="640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buClr>
                  <a:srgbClr val="c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Результат действия силы на тело зависит от ее модуля, направления и точки прило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13"/>
          <p:cNvGrpSpPr/>
          <p:nvPr/>
        </p:nvGrpSpPr>
        <p:grpSpPr>
          <a:xfrm>
            <a:off x="963720" y="4869000"/>
            <a:ext cx="7537320" cy="1736640"/>
            <a:chOff x="963720" y="4869000"/>
            <a:chExt cx="7537320" cy="1736640"/>
          </a:xfrm>
        </p:grpSpPr>
        <p:grpSp>
          <p:nvGrpSpPr>
            <p:cNvPr id="275" name="Группа 11"/>
            <p:cNvGrpSpPr/>
            <p:nvPr/>
          </p:nvGrpSpPr>
          <p:grpSpPr>
            <a:xfrm>
              <a:off x="5224680" y="5517000"/>
              <a:ext cx="3276360" cy="1041480"/>
              <a:chOff x="5224680" y="5517000"/>
              <a:chExt cx="3276360" cy="1041480"/>
            </a:xfrm>
          </p:grpSpPr>
          <p:sp>
            <p:nvSpPr>
              <p:cNvPr id="276" name="TextBox 8"/>
              <p:cNvSpPr/>
              <p:nvPr/>
            </p:nvSpPr>
            <p:spPr>
              <a:xfrm>
                <a:off x="5224680" y="5733000"/>
                <a:ext cx="3043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Обозначение силы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          </a:t>
                </a: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модуля силы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28720" y="5517000"/>
                <a:ext cx="472320" cy="57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0720" y="6093360"/>
                <a:ext cx="339840" cy="43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6" descr=""/>
            <p:cNvPicPr/>
            <p:nvPr/>
          </p:nvPicPr>
          <p:blipFill>
            <a:blip r:embed="rId5"/>
            <a:stretch/>
          </p:blipFill>
          <p:spPr>
            <a:xfrm>
              <a:off x="963720" y="4869000"/>
              <a:ext cx="3680640" cy="17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439236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765000"/>
            <a:ext cx="5113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Что произойдет, если?.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уронили поклажу из рук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подбросили вверх мяч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бросили в горизонтальном направлении палку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050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TextBox 5"/>
          <p:cNvSpPr/>
          <p:nvPr/>
        </p:nvSpPr>
        <p:spPr>
          <a:xfrm>
            <a:off x="1346040" y="3429000"/>
            <a:ext cx="57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ва будет траектория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1258920" y="3860640"/>
            <a:ext cx="7453440" cy="2737080"/>
            <a:chOff x="1258920" y="3860640"/>
            <a:chExt cx="7453440" cy="2737080"/>
          </a:xfrm>
        </p:grpSpPr>
        <p:pic>
          <p:nvPicPr>
            <p:cNvPr id="285" name="Picture 11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115236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2" descr=""/>
            <p:cNvPicPr/>
            <p:nvPr/>
          </p:nvPicPr>
          <p:blipFill>
            <a:blip r:embed="rId3"/>
            <a:stretch/>
          </p:blipFill>
          <p:spPr>
            <a:xfrm>
              <a:off x="2987280" y="4220640"/>
              <a:ext cx="5725080" cy="237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1">
            <a:lum bright="10000"/>
          </a:blip>
          <a:stretch/>
        </p:blipFill>
        <p:spPr>
          <a:xfrm rot="21239400">
            <a:off x="493560" y="3481560"/>
            <a:ext cx="2494080" cy="19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 rot="661800">
            <a:off x="5825880" y="3595680"/>
            <a:ext cx="269244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9" name="Picture 10" descr=""/>
          <p:cNvPicPr/>
          <p:nvPr/>
        </p:nvPicPr>
        <p:blipFill>
          <a:blip r:embed="rId3"/>
          <a:srcRect l="0" t="16049" r="0" b="0"/>
          <a:stretch/>
        </p:blipFill>
        <p:spPr>
          <a:xfrm>
            <a:off x="3851280" y="3068640"/>
            <a:ext cx="1197000" cy="15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90" name="TextBox 6"/>
          <p:cNvGrpSpPr/>
          <p:nvPr/>
        </p:nvGrpSpPr>
        <p:grpSpPr>
          <a:xfrm>
            <a:off x="-128520" y="2352600"/>
            <a:ext cx="9401040" cy="893880"/>
            <a:chOff x="-128520" y="2352600"/>
            <a:chExt cx="9401040" cy="893880"/>
          </a:xfrm>
        </p:grpSpPr>
        <p:pic>
          <p:nvPicPr>
            <p:cNvPr id="291" name="TextBox 6" descr=""/>
            <p:cNvPicPr/>
            <p:nvPr/>
          </p:nvPicPr>
          <p:blipFill>
            <a:blip r:embed="rId4"/>
            <a:stretch/>
          </p:blipFill>
          <p:spPr>
            <a:xfrm>
              <a:off x="-128520" y="2352600"/>
              <a:ext cx="9401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"/>
            <p:cNvSpPr/>
            <p:nvPr/>
          </p:nvSpPr>
          <p:spPr>
            <a:xfrm>
              <a:off x="0" y="2421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Некоторые примеры воздействия силы притяжения к Зем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" descr=""/>
          <p:cNvPicPr/>
          <p:nvPr/>
        </p:nvPicPr>
        <p:blipFill>
          <a:blip r:embed="rId5"/>
          <a:stretch/>
        </p:blipFill>
        <p:spPr>
          <a:xfrm>
            <a:off x="3492360" y="4941720"/>
            <a:ext cx="1833840" cy="16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302904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7" descr=""/>
          <p:cNvPicPr/>
          <p:nvPr/>
        </p:nvPicPr>
        <p:blipFill>
          <a:blip r:embed="rId7"/>
          <a:stretch/>
        </p:blipFill>
        <p:spPr>
          <a:xfrm>
            <a:off x="4140360" y="260280"/>
            <a:ext cx="1244520" cy="18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6" name="Picture 5" descr=""/>
          <p:cNvPicPr/>
          <p:nvPr/>
        </p:nvPicPr>
        <p:blipFill>
          <a:blip r:embed="rId8"/>
          <a:stretch/>
        </p:blipFill>
        <p:spPr>
          <a:xfrm>
            <a:off x="5867280" y="260280"/>
            <a:ext cx="27813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Группа 19"/>
          <p:cNvGrpSpPr/>
          <p:nvPr/>
        </p:nvGrpSpPr>
        <p:grpSpPr>
          <a:xfrm>
            <a:off x="1763640" y="4437000"/>
            <a:ext cx="6875640" cy="1944720"/>
            <a:chOff x="1763640" y="4437000"/>
            <a:chExt cx="6875640" cy="1944720"/>
          </a:xfrm>
        </p:grpSpPr>
        <p:sp>
          <p:nvSpPr>
            <p:cNvPr id="298" name="Прямоугольник 5"/>
            <p:cNvSpPr/>
            <p:nvPr/>
          </p:nvSpPr>
          <p:spPr>
            <a:xfrm>
              <a:off x="4067640" y="522936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Все тела притягиваются друг к друг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5" descr="Сила тяжести - это сила тяготения тела к планете. Сила тяжести всегда направлена к центру планеты"/>
            <p:cNvPicPr/>
            <p:nvPr/>
          </p:nvPicPr>
          <p:blipFill>
            <a:blip r:embed="rId1"/>
            <a:stretch/>
          </p:blipFill>
          <p:spPr>
            <a:xfrm>
              <a:off x="1763640" y="4437000"/>
              <a:ext cx="1717560" cy="194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300" name="TextBox 13"/>
          <p:cNvSpPr/>
          <p:nvPr/>
        </p:nvSpPr>
        <p:spPr>
          <a:xfrm>
            <a:off x="324000" y="242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жду план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гиваются между собой Земля и Лу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39528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и другие планеты движутся вокруг Солнца, притягиваясь к нему 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250920" y="189000"/>
            <a:ext cx="8580240" cy="3024000"/>
            <a:chOff x="250920" y="189000"/>
            <a:chExt cx="8580240" cy="3024000"/>
          </a:xfrm>
        </p:grpSpPr>
        <p:pic>
          <p:nvPicPr>
            <p:cNvPr id="303" name="Picture 9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1722240" cy="14461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304" name="TextBox 11"/>
            <p:cNvSpPr/>
            <p:nvPr/>
          </p:nvSpPr>
          <p:spPr>
            <a:xfrm>
              <a:off x="2266920" y="18900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Притяжение существует меж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Землей и телами, находящимися на не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1" descr=""/>
            <p:cNvPicPr/>
            <p:nvPr/>
          </p:nvPicPr>
          <p:blipFill>
            <a:blip r:embed="rId3"/>
            <a:stretch/>
          </p:blipFill>
          <p:spPr>
            <a:xfrm>
              <a:off x="6824880" y="260280"/>
              <a:ext cx="2006280" cy="151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06" name="Picture 12" descr=""/>
            <p:cNvPicPr/>
            <p:nvPr/>
          </p:nvPicPr>
          <p:blipFill>
            <a:blip r:embed="rId4"/>
            <a:stretch/>
          </p:blipFill>
          <p:spPr>
            <a:xfrm>
              <a:off x="3058920" y="1197000"/>
              <a:ext cx="2825640" cy="201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307" name="Picture 8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35440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8" name="Прямоугольник 17"/>
          <p:cNvGrpSpPr/>
          <p:nvPr/>
        </p:nvGrpSpPr>
        <p:grpSpPr>
          <a:xfrm>
            <a:off x="268200" y="1457280"/>
            <a:ext cx="8753400" cy="3632400"/>
            <a:chOff x="268200" y="1457280"/>
            <a:chExt cx="8753400" cy="3632400"/>
          </a:xfrm>
        </p:grpSpPr>
        <p:pic>
          <p:nvPicPr>
            <p:cNvPr id="309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68200" y="1457280"/>
              <a:ext cx="875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/>
            <p:cNvSpPr/>
            <p:nvPr/>
          </p:nvSpPr>
          <p:spPr>
            <a:xfrm>
              <a:off x="324000" y="1484280"/>
              <a:ext cx="864072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ambria"/>
                </a:rPr>
                <a:t>Притяжение всех тел Вселенной друг к другу называется 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Всемирным тяготен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1640" y="1267920"/>
            <a:ext cx="43210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971640" y="3645000"/>
            <a:ext cx="7416720" cy="22885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Силы притяжения между телами тем больше, чем больше массы эт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d9b"/>
                </a:solidFill>
                <a:latin typeface="Arial"/>
              </a:rPr>
              <a:t>Силы притяжения между телами уменьшаются, если увеличивается расстояние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4820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36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8000" y="1773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означение силы тяжести: </a:t>
            </a: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F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тяж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правление силы тяжести: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ертикально вни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6" name="Группа 6"/>
          <p:cNvGrpSpPr/>
          <p:nvPr/>
        </p:nvGrpSpPr>
        <p:grpSpPr>
          <a:xfrm>
            <a:off x="684360" y="2924280"/>
            <a:ext cx="8172360" cy="3533760"/>
            <a:chOff x="684360" y="2924280"/>
            <a:chExt cx="8172360" cy="3533760"/>
          </a:xfrm>
        </p:grpSpPr>
        <p:sp>
          <p:nvSpPr>
            <p:cNvPr id="317" name="Прямоугольник 3"/>
            <p:cNvSpPr/>
            <p:nvPr/>
          </p:nvSpPr>
          <p:spPr>
            <a:xfrm>
              <a:off x="5220720" y="2996280"/>
              <a:ext cx="36360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</a:rPr>
                <a:t>На Луне сила тяжести примерно в 6 раз слабее, чем на Земле, а на Юпитере - в 2,5 раза сильнее, чем на Земле. В таких условиях 10-ти килограммовая гиря будет казаться нам 25-ти килограммовой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2924280"/>
              <a:ext cx="2139840" cy="2184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>
              <a:off x="3132360" y="3932280"/>
              <a:ext cx="1800000" cy="2525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44Z</dcterms:created>
  <dc:creator>ЛюдмилкаТ</dc:creator>
  <dc:description/>
  <dc:language>en-US</dc:language>
  <cp:lastModifiedBy>LEGION</cp:lastModifiedBy>
  <dcterms:modified xsi:type="dcterms:W3CDTF">2015-03-30T08:13:38Z</dcterms:modified>
  <cp:revision>40</cp:revision>
  <dc:subject>Сила. Явление тяготения. Сила тяжести.</dc:subject>
  <dc:title>Сила. Явление тяготения. Сила тяжести.</dc:title>
</cp:coreProperties>
</file>